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2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54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2262960" y="6305400"/>
            <a:ext cx="63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 </a:t>
            </a:r>
            <a:r>
              <a:rPr b="1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Formation Développeu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Page : </a:t>
            </a:r>
            <a:fld id="{D9504E67-6570-49DC-B284-331CBB0D658E}" type="slidenum"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19040" y="6010200"/>
            <a:ext cx="952560" cy="59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005360"/>
            <a:ext cx="9144000" cy="28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560" y="3798720"/>
            <a:ext cx="41036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08000" y="620640"/>
            <a:ext cx="4762800" cy="2943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995280" y="5300280"/>
            <a:ext cx="5146920" cy="65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480" y="177840"/>
            <a:ext cx="2199960" cy="1360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332000" y="5013000"/>
            <a:ext cx="68961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repository.silverpeas.org/sdk/archetype-catalog.xml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443700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Formation Développeu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743200" y="5300640"/>
            <a:ext cx="64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2ème partie : le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Maven Archetyp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n </a:t>
            </a:r>
            <a:r>
              <a:rPr b="1" lang="fr-FR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catalogue 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qui contient deux modèles de peas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vec EJB 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ans EJB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540360" y="4005360"/>
            <a:ext cx="8213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Assemb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21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projet sous Subversion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OM décrivant l'ensemble des services à mettre en place dans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dépendant de la plate-forme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995920" y="3933720"/>
            <a:ext cx="38505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outils nécessaires à la production de Silverpea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p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db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Setting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a configura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résultats  de la construc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14400" y="371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struire un composa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5229360"/>
            <a:ext cx="64008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Les différentes ét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Génération du proj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Télécharger le fichier catalog.xml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Exécuter la commande 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paramètres sont les suivants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classNam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 en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group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i="1" lang="fr-FR" sz="1800" spc="-1" strike="noStrike">
                <a:solidFill>
                  <a:srgbClr val="808080"/>
                </a:solidFill>
                <a:latin typeface="Verdana"/>
              </a:rPr>
              <a:t>com.silverpeas.component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artifact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version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a version initiale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packag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package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3052800"/>
            <a:ext cx="871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60600" y="2044800"/>
            <a:ext cx="5933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Builder le compon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3357720"/>
            <a:ext cx="633744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déploi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Tout se fait dans le projet assembly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fichi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Ajouter les 3 module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ejb/j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confi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w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xécuter la commande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3065400" y="5013360"/>
            <a:ext cx="3481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30160" y="2421000"/>
            <a:ext cx="5575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ssembly/pom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62120" y="3397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L’application build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4797360"/>
            <a:ext cx="6400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Principes de foncti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a constr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820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 u="sng">
                <a:solidFill>
                  <a:srgbClr val="808080"/>
                </a:solidFill>
                <a:uFillTx/>
                <a:latin typeface="Verdana"/>
              </a:rPr>
              <a:t>L’application builder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Fonction :</a:t>
            </a: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nstruire le fichier EAR et la librairie cliente.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tilisation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4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silverpeasSettings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app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db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Objectifs de la form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32000" y="5013000"/>
            <a:ext cx="6897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777240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besoins du développeur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sur l’intégration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des API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Formation s’adressant à tout utilisateur ayant vocation à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Développer un component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tégrer un component dan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Objectifs de cette formation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mprendre le fonctionnement du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stallation d’un poste de développem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enu du SDK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’Application Builder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tapes pour construire un compon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346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Install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4916520"/>
            <a:ext cx="6400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11560" indent="-3210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1441160"/>
                <a:tab algn="l" pos="12355560"/>
                <a:tab algn="l" pos="132699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programme d’install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es différentes parties à install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JDK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ache Mav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serveur d’application JBos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 Development Ki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Démonst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79280" y="3212640"/>
            <a:ext cx="460836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lace à l'installation …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2120" y="357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tenu du SD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502128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Structure des réperto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Configurer Maven</a:t>
            </a: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settings.x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1484280"/>
            <a:ext cx="7236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ettings&gt;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 Nexu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name&gt;Silverpeas Nexus Public Mirror&lt;/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url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http://repository.silverpeas.org/nexus/content/groups/public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ur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Of&gt;*&lt;/mirrorOf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ilverpeas.home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C:/Silverpeas/KMEdition/Production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ilverpeas.ho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&gt;Silverpeas&lt;/active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etting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2:22:04Z</dcterms:created>
  <dc:creator/>
  <dc:description/>
  <dc:language>en-US</dc:language>
  <cp:lastModifiedBy>Emmanuel Hugonnet</cp:lastModifiedBy>
  <dcterms:modified xsi:type="dcterms:W3CDTF">2009-08-10T14:20:31Z</dcterms:modified>
  <cp:revision>51</cp:revision>
  <dc:subject/>
  <dc:title>Présentation PowerPoint</dc:title>
</cp:coreProperties>
</file>